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1A9-6FDC-44CC-9761-3BD3B4BA5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479-F0DB-453A-8C72-7BC81D3B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FA1-3105-444B-8D71-C677AB479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9996-64FC-4FB9-B28A-ADF999B13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F654-427D-46E3-B5B4-BB7EE6703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61C7-3CF5-4E9E-BABD-28065323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FAF1-65FE-4521-9DB9-410D1CB3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AAD5-39CB-4127-929F-DA55F69A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071-B9CF-4B4C-899A-9EB6BFB9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08A-81E4-40FA-9C17-E836471E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FC3-8CC1-418E-AF29-EB85EC3A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6E5C-FDB5-4A1E-AC4F-2359C3A5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34565-B0B0-4BF7-BB7C-26225D2DE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38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Câmara Técnica de Integração de Procedimentos, Ações de Outorga e Ações Reguladoras</a:t>
            </a:r>
            <a:br>
              <a:rPr sz="2000"/>
            </a:br>
            <a:br>
              <a:rPr sz="4100"/>
            </a:br>
            <a:br>
              <a:rPr sz="4100"/>
            </a:br>
            <a:r>
              <a:rPr b="1" lang="pt-BR" sz="3800" spc="-1" strike="noStrike">
                <a:solidFill>
                  <a:srgbClr val="333399"/>
                </a:solidFill>
                <a:latin typeface="Arial"/>
              </a:rPr>
              <a:t>OFICINA</a:t>
            </a:r>
            <a:br>
              <a:rPr sz="3800"/>
            </a:br>
            <a:r>
              <a:rPr b="1" lang="pt-B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333399"/>
                </a:solidFill>
                <a:latin typeface="Arial"/>
              </a:rPr>
              <a:t>A Gestão de Recursos Hídricos em Corpos de Água Intermitentes</a:t>
            </a:r>
            <a:br>
              <a:rPr sz="3200"/>
            </a:br>
            <a:br>
              <a:rPr sz="3700"/>
            </a:br>
            <a:br>
              <a:rPr sz="3700"/>
            </a:br>
            <a:r>
              <a:rPr b="1" lang="pt-BR" sz="2500" spc="-1" strike="noStrike">
                <a:solidFill>
                  <a:srgbClr val="333399"/>
                </a:solidFill>
                <a:latin typeface="Arial"/>
              </a:rPr>
              <a:t>Brasília, 25 e 26 de maio de 2010</a:t>
            </a:r>
            <a:br>
              <a:rPr sz="2500"/>
            </a:br>
            <a:br>
              <a:rPr sz="3700"/>
            </a:b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01fb01cafb83$9ed95050$9c1011ac@EST4169"/>
          <p:cNvPicPr/>
          <p:nvPr/>
        </p:nvPicPr>
        <p:blipFill>
          <a:blip r:embed="rId1"/>
          <a:stretch/>
        </p:blipFill>
        <p:spPr>
          <a:xfrm>
            <a:off x="3200400" y="380880"/>
            <a:ext cx="327672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7:02:27Z</dcterms:created>
  <dc:creator>srhu</dc:creator>
  <dc:description/>
  <dc:language>en-US</dc:language>
  <cp:lastModifiedBy>srhu</cp:lastModifiedBy>
  <dcterms:modified xsi:type="dcterms:W3CDTF">2010-04-25T17:46:09Z</dcterms:modified>
  <cp:revision>2</cp:revision>
  <dc:subject/>
  <dc:title>Câmara Técnica de Integração de Procedimentos, Ações de Outorga e Ações Reguladoras   </dc:title>
</cp:coreProperties>
</file>